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83DA9-686A-4016-8F3B-4902F78D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90BD8-DF89-475B-AD1D-0FF8313A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DF2DB-93B3-44AF-947D-EA01FD96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714DA-E119-44BF-AF0C-BBB8603C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5C5E-58C0-4D36-92A4-ABD8D4C5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3A6E-2F82-4E07-923A-1F35295B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8712-05E3-4B95-A197-417D249E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8901-88F5-4E30-8C30-12A4223D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6DC3-87FC-48C4-B627-0FB65DF9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54CC-6FCD-47F6-ADFB-CDF5096E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D306-6836-4D11-A14B-9C043CDB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97E9E-9A07-42A0-9666-FCED2F23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CACC-C3A1-4E55-8DEA-A8CC9D5F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B20A-15A4-4462-B0DF-44D1D7B6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97CC-4C2F-42C2-B623-F9A8240E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B676-3C49-4F23-A695-74885B80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B520-9343-4240-BE08-B3A8C640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22B4A-3697-4AAD-8048-D9F025A4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B4CF1-BEF7-485C-9363-77850671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B623C-0D2F-4CBA-9A02-4F8B36D0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41E0-AC41-44C5-B37E-5C90597C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86E87-4BC8-4E81-9DAA-0009B38F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0C302-5499-4355-A2CE-26A0C971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F91DB-B0C3-47A7-8114-37CC5D8D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7744-6E1B-4AC3-B73D-E6BD4757EE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8CAA-3D86-488A-84FF-6851ACBB6E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Writing Perkins Grants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thi Tur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TE Coordin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owley’s Ridge Education Service Coop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urner@crmail.k12.ar.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l D. Perkins 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school which receives less than $15,000 must pool funds within a consor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s are distributed by the following rat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70% of the funds will be based on the number of children in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verty ages 5-17 who reside in each school distr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30% of the funds will be based on the number of childr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s 5-17 who reside in each school distr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s are not an entitlement and lose their identity within consor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new reauthorization in 2006, very little money is spent on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s are directed toward improvement of Perkins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kins Indicato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ademic Skill Attainment –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ademic Skill Attainment - 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Skill Attai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chool Completion 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chool Graduation 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m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traditional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traditional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2"/>
          <p:cNvSpPr/>
          <p:nvPr/>
        </p:nvSpPr>
        <p:spPr>
          <a:xfrm>
            <a:off x="4130640" y="1574640"/>
            <a:ext cx="0" cy="0"/>
          </a:xfrm>
          <a:prstGeom prst="line">
            <a:avLst/>
          </a:prstGeom>
          <a:ln cap="rnd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90720" y="1828800"/>
          <a:ext cx="7543800" cy="4724280"/>
        </p:xfrm>
        <a:graphic>
          <a:graphicData uri="http://schemas.openxmlformats.org/drawingml/2006/table">
            <a:tbl>
              <a:tblPr/>
              <a:tblGrid>
                <a:gridCol w="971280"/>
                <a:gridCol w="908280"/>
                <a:gridCol w="1109520"/>
                <a:gridCol w="1114560"/>
                <a:gridCol w="1349280"/>
                <a:gridCol w="977760"/>
                <a:gridCol w="1113120"/>
              </a:tblGrid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C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-13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 PERFORM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NUAL INCR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11 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-08                   2008-09                2009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ademic Attainment-Litera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.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.6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.9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.4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ademic Attainment-Geome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.4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.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.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.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Attain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.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.5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5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 School Comple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 School Grad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.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7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6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traditional 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7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.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traditional Comple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.9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.8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6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.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07"/>
          <p:cNvSpPr/>
          <p:nvPr/>
        </p:nvSpPr>
        <p:spPr>
          <a:xfrm>
            <a:off x="1066680" y="592560"/>
            <a:ext cx="771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OWLEY’S RIDGE PERKINS CONSORTIUM PERFORMANC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Program Improv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ross-All-Programs Project (Project to address a performance indic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 of Specific Program of Study (High Skill, High Wage, High Dem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to address a performance indic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see hand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j0239747"/>
          <p:cNvPicPr/>
          <p:nvPr/>
        </p:nvPicPr>
        <p:blipFill>
          <a:blip r:embed="rId1"/>
          <a:stretch/>
        </p:blipFill>
        <p:spPr>
          <a:xfrm flipH="1">
            <a:off x="2819160" y="1676520"/>
            <a:ext cx="3174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22:15:17Z</dcterms:created>
  <dc:creator>Lori Mitchell</dc:creator>
  <dc:description/>
  <dc:language>en-US</dc:language>
  <cp:lastModifiedBy>CE</cp:lastModifiedBy>
  <dcterms:modified xsi:type="dcterms:W3CDTF">2011-07-27T02:18:49Z</dcterms:modified>
  <cp:revision>13</cp:revision>
  <dc:subject/>
  <dc:title>Writing Perkins Grants for Career Guidance</dc:title>
</cp:coreProperties>
</file>